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F5B-E23C-433B-A20F-BC8B52B4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7CE-DE87-4E9A-9AC4-9929AB73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E63-3FBE-4DF4-93F6-C1B54EBD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86B-C5F3-435B-9F93-8C4D43FD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ABAE-2B6E-41E0-B389-410E0F94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E9D6-5066-429C-A45B-0F8158CD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32EA-6FA9-43EF-B73F-EDE123E0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F657-BFBB-4CA0-8D67-E1BFDA3C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8783-1A2A-440D-BCD0-FCF4EB41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41B1-BB13-41EA-ABF6-A8CAFCF6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BA3E-81CF-4F92-97CF-C59E07ED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518-35A0-4735-8BA3-6EB2310D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F28F-00CC-4E67-B792-E507D36A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03BE-96DB-4EFB-96CA-BC575FA5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D5D3-C2E7-40E4-85E0-31D10A95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B2B5-3A8E-4FE6-8D98-9A25D131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3D2B-03AE-4053-A834-095906EE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093-DD71-4368-9B77-A390CFDC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9C0-5DDB-4FC4-9FE7-90F80B14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842-7E2A-403F-B92E-B4F22307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DF4-A268-4658-B21C-1A188503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A65-4074-4590-AB30-29508CD8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90C-8F49-49BF-9F9A-52C8AD87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239-9CD3-424C-8E11-76C9D447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5600" spc="-1" strike="noStrike">
                <a:solidFill>
                  <a:srgbClr val="50e0ea"/>
                </a:solidFill>
                <a:latin typeface="Calibri"/>
              </a:rPr>
              <a:t>单击此处编辑母版标题样式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FD75B9-995A-4D12-A46F-8ACB6FB36994}" type="slidenum"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C99D88-DCDC-4765-BE63-BA70F58A5075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6000" spc="-1" strike="noStrike">
                <a:solidFill>
                  <a:srgbClr val="50e0ea"/>
                </a:solidFill>
                <a:latin typeface="Calibri"/>
              </a:rPr>
              <a:t>展望美好的大学时光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踏入大学校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2160000" y="2880000"/>
            <a:ext cx="5445000" cy="3599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1259640" y="764640"/>
            <a:ext cx="669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四年的大学生活我们将在这里度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EBDA-4B60-4E38-9F06-5223D485DA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流畅">
  <a:themeElements>
    <a:clrScheme name="流畅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流畅">
  <a:themeElements>
    <a:clrScheme name="流畅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9</TotalTime>
  <Application>LibreOffice/7.4.7.2$Linux_X86_64 LibreOffice_project/40$Build-2</Application>
  <AppVersion>15.0000</AppVersion>
  <Words>19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8:50:58Z</dcterms:created>
  <dc:creator>fan</dc:creator>
  <dc:description/>
  <dc:language>en-US</dc:language>
  <cp:lastModifiedBy>Mr</cp:lastModifiedBy>
  <dcterms:modified xsi:type="dcterms:W3CDTF">2012-10-10T06:38:5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