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E69D-5909-43BB-9E81-CC1211B3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2B5-ACDF-45EB-BABE-D3105863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2394-27E7-4EBB-9CED-DA6DD666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F79E-FAAD-447A-8596-0A250999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7629-E3B8-45D9-B62D-A1461D8C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A631-D733-4607-869C-3B887765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3428-FC11-44E6-B5C1-7D69810F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DBC2-FD22-4968-A17C-5DAC3097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164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ADC4-EED6-4691-9C52-374D0D2C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EDB8-AB63-4735-A8DF-9703BAB7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48D6-AE33-4C65-ACEA-1253D795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AB84-7CA8-4CC7-8CAD-144B6A56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000" y="5165280"/>
            <a:ext cx="23482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360" y="5165280"/>
            <a:ext cx="319500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5165280"/>
            <a:ext cx="23482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B5A492-56F3-4A61-B05C-A872B95AD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8:50:58Z</dcterms:created>
  <dc:creator>fan</dc:creator>
  <dc:description/>
  <dc:language>en-US</dc:language>
  <cp:lastModifiedBy>Mr</cp:lastModifiedBy>
  <dcterms:modified xsi:type="dcterms:W3CDTF">2012-10-10T02:34:37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</Properties>
</file>