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5FDA-257E-4A13-A103-DFD4DBAB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5263-EE85-44A8-97E0-F1DE4C82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EE77-FD93-41E8-A9D1-3542B1C7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844C-8868-435B-84E3-8918FD85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8A63-33C6-43D8-B792-9B9B79A5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1D1C-FE52-4E7B-9DCB-2E8B1BDD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B0E1-22C2-49D1-8209-E7FA04C0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2839-C2E7-496A-942E-E599FA18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9E8F-3945-4875-9E34-C27F4224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ED6E-7D74-4D43-9C3E-9CF25555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6629-0917-48A9-B3EF-ADA02D15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59FA-2E19-4BB0-B9E0-E50513AD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A059-1554-41D2-BBC4-0FA4A7DA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78C7-F12A-4D92-B444-15D69A04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85AD-138C-4842-8576-D8A30340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0F47-E287-4BED-AA64-75BC70C4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1A85-F341-4E50-B121-1DFD236C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934C-AA03-4F3D-8F87-E99159E4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0DAD-DCE1-4973-BB37-4E682620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6DE6-0777-43D6-89DB-864EDF95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3FB5-30F6-4DE4-806D-F3E34AC9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4723-63B9-43F0-8847-42F0DBE2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2F75-17B2-4D63-84F8-991D91E6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92C4-E01E-4A1D-9ADD-FFFE0D88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5600" spc="-1" strike="noStrike">
                <a:solidFill>
                  <a:srgbClr val="50e0ea"/>
                </a:solidFill>
                <a:latin typeface="Calibri"/>
              </a:rPr>
              <a:t>单击此处编辑母版标题样式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D74514-F036-4C32-92F7-44B9AF9DA593}" type="slidenum">
              <a:rPr b="0" lang="en-US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B1A3F8-51CF-4D46-A7C0-2131C8E0D79A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6000" spc="-1" strike="noStrike">
                <a:solidFill>
                  <a:srgbClr val="50e0ea"/>
                </a:solidFill>
                <a:latin typeface="Calibri"/>
              </a:rPr>
              <a:t>展望美好的大学时光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踏入大学校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"/>
          <p:cNvPicPr/>
          <p:nvPr/>
        </p:nvPicPr>
        <p:blipFill>
          <a:blip r:embed="rId1"/>
          <a:stretch/>
        </p:blipFill>
        <p:spPr>
          <a:xfrm>
            <a:off x="2160000" y="2880000"/>
            <a:ext cx="5445000" cy="359964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1259640" y="764640"/>
            <a:ext cx="669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四年的大学生活我们将在这里度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0E0C-B5B1-4663-9820-F069DF4CE6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流畅">
  <a:themeElements>
    <a:clrScheme name="流畅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f491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流畅">
  <a:themeElements>
    <a:clrScheme name="流畅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f491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19</TotalTime>
  <Application>LibreOffice/7.4.7.2$Linux_X86_64 LibreOffice_project/40$Build-2</Application>
  <AppVersion>15.0000</AppVersion>
  <Words>19</Words>
  <Paragraphs>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8:50:58Z</dcterms:created>
  <dc:creator>fan</dc:creator>
  <dc:description/>
  <dc:language>en-US</dc:language>
  <cp:lastModifiedBy>Mr</cp:lastModifiedBy>
  <dcterms:modified xsi:type="dcterms:W3CDTF">2012-10-10T06:38:5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