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F27-830C-4A79-9B59-1FA2B625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70B-3A60-4FC3-8399-5D451CBE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FAD-ADCD-46A4-BC63-6C925B1B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D370-4510-4043-9FBB-A5E37FFD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119-718D-4713-898C-B4CAB808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3B5-4537-4C11-8FE8-1AAD6D86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EF7-3855-4610-9F96-0AB3CD68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A36-B6F0-4967-8CF3-100F83AB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16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392-1302-4860-9A98-11F6C37E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855-F561-4B88-ADEB-56063552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3EF-16C6-4237-9DE4-DF97D8A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E67-87F2-423C-81D3-8125AF4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5165280"/>
            <a:ext cx="31950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9D60E-95B9-4134-99C9-35A1C4AD8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8:50:58Z</dcterms:created>
  <dc:creator>fan</dc:creator>
  <dc:description/>
  <dc:language>en-US</dc:language>
  <cp:lastModifiedBy>Mr</cp:lastModifiedBy>
  <dcterms:modified xsi:type="dcterms:W3CDTF">2012-10-10T02:34:37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</Properties>
</file>