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E9F-1D5C-4122-BB2C-E88B909D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352-91C1-4C4A-A752-0C7BA98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6EF-09D2-497B-8198-2E44FCA2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371-9A38-45E0-B852-8126FC5C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0D92-8836-41FB-A8F5-1459CF72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525C-7F74-43B7-BCF8-85FE7DF1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1D6A-1008-4626-93E5-0863D97C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A1B7-E937-4D80-B4CE-9C91201D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4543-A510-45BC-8259-9D1780A2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4C9D-9882-4FBF-8D55-2A473EC0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1DB5-D7D3-420D-8C26-98FA1E56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2C5-EF88-4FE9-BA90-1852D431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F263-96AE-453B-B48E-CE9D0555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56CB-B959-4143-B048-41186932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33CF-CEDC-4C1F-8154-8861548F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8FA8-8097-4402-A82B-1C396B07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F107-DD85-4B9F-BE02-D8F9049D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20C9-8F6A-4D12-B015-736F4358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081-F121-4822-8546-ECBA0727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A4D-084F-4AF7-ACC0-81C887FF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473-1E67-4722-9FB4-78341AE0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0AB-5D29-4E7D-922B-392E521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98D-EF56-4300-BD23-157C9A14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7B3-BBF0-42AC-AD52-479EF60E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5600" spc="-1" strike="noStrike">
                <a:solidFill>
                  <a:srgbClr val="50e0ea"/>
                </a:solidFill>
                <a:latin typeface="Calibri"/>
              </a:rPr>
              <a:t>单击此处编辑母版标题样式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392E9D-0E43-4DC8-9040-7F48998A8E19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199D1F-6A54-420F-9DE3-9FA9EA7DCA0B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6000" spc="-1" strike="noStrike">
                <a:solidFill>
                  <a:srgbClr val="50e0ea"/>
                </a:solidFill>
                <a:latin typeface="Calibri"/>
              </a:rPr>
              <a:t>展望美好的大学时光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踏入大学校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2160000" y="2880000"/>
            <a:ext cx="5445000" cy="3599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259640" y="764640"/>
            <a:ext cx="66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年的大学生活我们将在这里度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BC2-2B0F-4634-9359-3B2EBC71E2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流畅">
  <a:themeElements>
    <a:clrScheme name="流畅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流畅">
  <a:themeElements>
    <a:clrScheme name="流畅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</TotalTime>
  <Application>LibreOffice/7.4.7.2$Linux_X86_64 LibreOffice_project/40$Build-2</Application>
  <AppVersion>15.0000</AppVersion>
  <Words>19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8:50:58Z</dcterms:created>
  <dc:creator>fan</dc:creator>
  <dc:description/>
  <dc:language>en-US</dc:language>
  <cp:lastModifiedBy>Mr</cp:lastModifiedBy>
  <dcterms:modified xsi:type="dcterms:W3CDTF">2012-10-10T06:38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