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676B-93EA-4C52-A405-A745D43F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EB7-468D-4F12-8A05-850A0F56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FA7-FF84-4329-9DA5-FEDBEE4C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C14-922F-41C4-8429-73E476B6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F6E4-5A85-4EAD-883E-A665DEA8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EC99-5727-4D17-ABA2-3B5E0B38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09CF-3B77-4F4C-8D41-C62ED5E6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D6F7-F486-4681-9EB3-2B226D70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AA70-9ECA-4F1E-8D4A-6F7DFC97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727B-3125-4D55-9DD3-2FD6E0C9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89CF-028F-4390-9F5B-D10EB6FF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F403-1EC1-4A3B-A011-8B3CD028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A9FF-6042-4FD3-BC8E-5DDAF665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FB81-B92D-4A0C-ADFA-8465E922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0D46-232F-4B81-8BBC-64999FF3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3EEF-D99C-425E-8C5E-898C79A2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09C7-E5B7-4429-A978-D0AFAC8E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92F-D11C-46B3-BC97-4D90A01C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DDAB-A5FB-4C9A-8C8F-5B43D8E3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F47-BFAD-483E-A390-9B32659E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FFC9-7CA0-4766-AFA1-F027C324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3FF-9EF6-489A-9A0A-308BF527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C4D-D413-4578-9C76-58A5B47B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E1D-8804-4892-A252-644B7E6C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5600" spc="-1" strike="noStrike">
                <a:solidFill>
                  <a:srgbClr val="50e0ea"/>
                </a:solidFill>
                <a:latin typeface="Calibri"/>
              </a:rPr>
              <a:t>单击此处编辑母版标题样式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DAB8FD-90A4-4CE3-BF03-40DA18F061B1}" type="slidenum">
              <a:rPr b="0" lang="en-US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1BB4CB-E28D-4BCB-AADC-B2AE9696B1D4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6000" spc="-1" strike="noStrike">
                <a:solidFill>
                  <a:srgbClr val="50e0ea"/>
                </a:solidFill>
                <a:latin typeface="Calibri"/>
              </a:rPr>
              <a:t>展望美好的大学时光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踏入大学校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2160000" y="2880000"/>
            <a:ext cx="5445000" cy="359964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1259640" y="764640"/>
            <a:ext cx="669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四年的大学生活我们将在这里度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8FF8-6D89-4639-A706-9DFB76A25F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流畅">
  <a:themeElements>
    <a:clrScheme name="流畅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f491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流畅">
  <a:themeElements>
    <a:clrScheme name="流畅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f491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9</TotalTime>
  <Application>LibreOffice/7.4.7.2$Linux_X86_64 LibreOffice_project/40$Build-2</Application>
  <AppVersion>15.0000</AppVersion>
  <Words>19</Words>
  <Paragraphs>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8:50:58Z</dcterms:created>
  <dc:creator>fan</dc:creator>
  <dc:description/>
  <dc:language>en-US</dc:language>
  <cp:lastModifiedBy>Mr</cp:lastModifiedBy>
  <dcterms:modified xsi:type="dcterms:W3CDTF">2012-10-10T06:38:5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